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E7E1A-F4F0-4E98-8391-2A4C4AB8E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18C0-B037-4B5C-AEFF-33C4657F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AEBB5F-89C6-47A2-8583-7B3BFC79C8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BC6724-C043-4439-AC86-46107F68D9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75E7C64-A691-4918-9EB2-4F52759E70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B358EB-D56E-4B87-9801-326B73E7D3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3E7A6D-2ADA-4F69-8F6C-0EB56532A7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41F6E7-A689-4583-9F45-132B4F26E4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E89D2C-B816-4EBF-BECA-672A2D5DF6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F91AC5-D54E-4E4C-9A70-706969125A9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1913C6-C1E3-4CBF-91C4-815B9CFF9FA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864DDB9-D2AE-4156-A13B-736D36C8CA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A1A17-1D30-40F4-8255-DB6622840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3E0A8BD-39A6-47F7-BC78-963414C90D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F0C4771-2D6E-4821-BF58-F87A6BC426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221BFD-DAF4-4720-AE4D-269A0AA0D09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1D3C461-2A44-4902-A2B5-FEFBDA2C097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4379BAA-968A-4E2B-BB85-7ED97E2B46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8987E6F-8BD5-46FA-8ED8-874E54157C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68B220E-EB5E-4F2F-868E-556FDCBD3BF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468938-5450-4E7B-89F3-5A3D8699B6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EBACCCD-F845-4DDB-B264-330CA6C3AA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A308613-728A-47E3-83A6-3E1732DAF70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DC77B-E9D1-462E-A903-08ABE675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C07F387-02E4-4837-B446-C2CAF35C53B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F49E18-595D-4299-9125-BE25E6E79FD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6C5A95F-FA85-4C37-9C6B-D107A6589D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16BCF27-E997-433F-A534-895C2B5B26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470FB8F-E9DD-4186-963E-52B14113AAE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0140F7D-4888-45A4-BDAB-252FF878919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39560D9-C74B-450B-9190-6D4078B2A9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58FBD2-F394-4E67-98E5-E01BDE239D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43F4285-BFF2-4C5D-A2E7-37E08ADAC44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EC6AC64-4E7C-43BC-B3A1-C3C4BA6844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A69C5-DF39-4859-8210-8F89C3241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159C223-2606-42F6-BDDD-D7C7FA5EE9F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9AF09D6-41B3-4C10-82BB-EAFCCD7B00C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7FC0DCB-8EEF-416A-8DE3-FB917E0EF3E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9FB0952-802A-4991-9C04-D114CADC39D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71E28F0-B923-4832-A067-BD0B9350961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F048959-3CED-4F40-AE36-D1E26ADDFF1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7ABAE2A-FCEE-4D21-8464-47CD4997CC2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1BA60D-4358-44F2-BC7A-78220B6D7AF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480FF2A-5E04-4C46-B1AC-C7F00445865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7120F05-A261-471B-8CB1-D8EE58CAE5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4A8E9-9A8B-44FC-AF33-08904DEA4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80C074-2D8E-410F-814E-4E2EA576C0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B270161-6D17-424A-883D-67FECB91CB6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D1A5ED7-D4C4-4661-AEEA-4539E153348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456A200-0CB7-4401-AF33-2FC73F68864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BCFDBF9-754E-4F28-B1A9-8F41039526C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19D2E-FC10-40EE-A1E5-20AFB7691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941DD-555A-4CC0-9D55-7CF3B9BAA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D5F1C-621F-4305-8F46-C52E0F11D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9530C-2929-4433-B82E-72F43A4B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5F62B-96DB-4098-A23D-0F27CC69B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0FFE-2D33-43D5-A089-072E9FD5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E7D5E-40BD-42AC-8540-7D4A5039D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C5718-B8AE-4E9D-B374-2358C1FD6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4F472-C56D-46B8-BC64-F516E54FE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91567-1606-453B-A2F7-1ADAD773E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7BA86-5139-461C-98BF-AD8A03332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A33E98-121E-40BF-AFEE-7689E8CFB0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7C9099-3166-45C7-8F45-874837B7BF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27F82B-8096-44C7-852E-31C112803F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949951-FA77-4EC0-93FF-06B078E746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6E9A86-9553-448D-BFE8-BDFC3956DD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6BB0-850A-42B0-B943-74FD37FA3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E829CE-FED3-4330-A3E2-942367D002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F5588E-B386-412A-86B9-6E3F4117F6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DFFB52-3E2B-48EC-841F-D17C795CB1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87A101-B51B-4F7C-B27E-B31E63D3E5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78ECEE-AC02-4334-AD25-B333E55CBD7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4A187F3-2AA1-4C83-8FF4-6C7D0CC4A9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B3EE8E-76C2-4D96-A9CA-DF3C9CC9EA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290E21-F228-444D-86CC-0D270FF892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76DEC9-F577-433F-BB8E-C8BF96EE46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9058AB-2E40-483F-A43F-9B7D0ADF4D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ADD19-82F6-439A-AA31-10EE3D919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E5C89F-1677-4F68-A734-7799D0E9B0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079BE1-8217-49AD-807B-C7026B7E4B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52773A-95A8-491B-A401-F3C74E4CBF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6C071D-E5D7-488B-AB1F-CD7155B56D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1213D9-20A7-4DF0-AAD6-D90070445F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E0EB49-8998-4E1E-B9B4-4A47759DE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05EB99-8497-4394-BE71-7D8D51B5F9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518F699-2698-404B-81C8-499A4B882A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B87C83-770A-4FE0-9A87-56EE1939BC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1FDCDB-3792-4A20-AA3E-8AF5B7E68F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620A-6275-48D6-B335-0E6E66EE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14B253-02D0-4A67-9735-2EB1B4FE0F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3C8448-9DC0-46F9-8015-C65A75ED1C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1B668D-1D79-47EE-9155-72067BD4B9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7BF8C1-7D3D-4DCA-ABCE-801DA881FC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E0BFF9-979A-479C-8521-57365E2C06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BD68D8-2787-4824-80F2-3ADCB1C506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5250AE-4F28-4BC7-AEC6-FDFE102C3A9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1989CD-70A6-491F-A68C-7C081EB2FD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DBDC57-9A9A-4819-8F3E-6497BE6040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A2586DC-6C38-4826-8018-ED1D37CA90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CE7A-B297-4E39-A199-50F9AF7C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3021C5-FC81-4C60-BA6C-05D104F121D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9007E47-C74C-4D0E-A156-B56DE0F952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C74A72E-F5E7-4799-BF22-8D17DD0CB0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F132E7-917B-465E-A4E1-94A1B4FA931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B90CD0-82C9-4247-94E3-45F399EC06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8DCE07-9925-417A-B16F-2020199FAC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C3D372-C1DD-4A95-A5B7-B3FC6574E8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69FC90-A89F-451B-9CCC-6179571416B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C830CF-F78D-4D9F-A00E-6C2AE0AD4A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A75502-0F9A-4AFF-9205-8AD50D2316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C88B-F1C6-4B31-A17F-3E0FE98F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011086-7C30-4976-9E81-47D32DC0CF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D84A5EC-A739-4ED5-8A9F-A4129554063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B9CC047-5FF5-4E35-918B-21FEBAD9CBC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5C025AD-C39F-4904-895F-0B5D4223161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158E5F-F741-4489-B46D-BA80D9A7AF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B0657E-5FC0-40A5-81C9-1E657B9D39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6555579-9BFC-4E77-88B7-65827ADD7FC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717AC0-7255-4E66-B32A-50DB80F1F9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A0376E-68CA-4166-8F56-663861A552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EE7523-D23B-469A-AA92-990177E8630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8C09-CD9C-4BE1-BB83-D2BBDFB7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E2822D-E836-4AFE-BD7D-144E804F73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6E6212-6DF6-400F-8649-3797DF1B17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7EC2241-53BD-4B06-992F-59E12907BC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3B8FB5E-EBD4-4DB9-9C89-425F3479B89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35DDD68-D8BD-4C20-92BD-16AF1FC5116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C5FDA96-1B05-4A0D-98D6-C295209642D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A530CA-9FD1-4051-ABD6-D28C4BA659A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D5355C-EEA5-474F-993E-0121DE22EF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79897D-11BE-48C9-93E3-36D003AA0F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310994-FB36-489D-8E92-2100FE4747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AD8F-8353-4D55-905D-310A5C0E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C729B3-1D12-4C3B-8B71-92FA41A5DC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53BB43-2AEC-42D5-B39B-CEAC65A958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5EFCBB-9D50-4B49-BE63-5A431A0F641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6BE954-3F87-4570-9F0E-A93BCCC5B4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DA3D561-51A9-4576-96CA-25C1993A3D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6E0F5D3-7CA3-4861-B2CC-F8A279BA45D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D3D426B-3BF8-4867-BAAF-90378D83703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511A93-BB79-450D-BCDE-85EC9A062B6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C9B995-159A-4A1F-946A-443ECF484E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8BF3A6-06C9-46ED-982F-B473E037D52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0" name="Rectangle 6"/>
          <p:cNvGrpSpPr/>
          <p:nvPr/>
        </p:nvGrpSpPr>
        <p:grpSpPr>
          <a:xfrm>
            <a:off x="-12600" y="-6480"/>
            <a:ext cx="9156600" cy="6297840"/>
            <a:chOff x="-12600" y="-6480"/>
            <a:chExt cx="9156600" cy="6297840"/>
          </a:xfrm>
        </p:grpSpPr>
        <p:pic>
          <p:nvPicPr>
            <p:cNvPr id="1" name="Rectangle 6" descr=""/>
            <p:cNvPicPr/>
            <p:nvPr/>
          </p:nvPicPr>
          <p:blipFill>
            <a:blip r:embed="rId2"/>
            <a:stretch/>
          </p:blipFill>
          <p:spPr>
            <a:xfrm>
              <a:off x="-12600" y="-6480"/>
              <a:ext cx="9156600" cy="6297840"/>
            </a:xfrm>
            <a:prstGeom prst="rect">
              <a:avLst/>
            </a:prstGeom>
            <a:ln w="0">
              <a:noFill/>
            </a:ln>
          </p:spPr>
        </p:pic>
        <p:sp>
          <p:nvSpPr>
            <p:cNvPr id="2"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A45D-F1D1-48F1-9012-DC0623BA5F26}"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D9FB-BC2A-42BE-8436-088DCC0F28C7}"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435" name="Rectangle 6"/>
          <p:cNvGrpSpPr/>
          <p:nvPr/>
        </p:nvGrpSpPr>
        <p:grpSpPr>
          <a:xfrm>
            <a:off x="-12600" y="-6480"/>
            <a:ext cx="9156600" cy="6297840"/>
            <a:chOff x="-12600" y="-6480"/>
            <a:chExt cx="9156600" cy="6297840"/>
          </a:xfrm>
        </p:grpSpPr>
        <p:pic>
          <p:nvPicPr>
            <p:cNvPr id="436" name="Rectangle 6" descr=""/>
            <p:cNvPicPr/>
            <p:nvPr/>
          </p:nvPicPr>
          <p:blipFill>
            <a:blip r:embed="rId2"/>
            <a:stretch/>
          </p:blipFill>
          <p:spPr>
            <a:xfrm>
              <a:off x="-12600" y="-6480"/>
              <a:ext cx="9156600" cy="6297840"/>
            </a:xfrm>
            <a:prstGeom prst="rect">
              <a:avLst/>
            </a:prstGeom>
            <a:ln w="0">
              <a:noFill/>
            </a:ln>
          </p:spPr>
        </p:pic>
        <p:sp>
          <p:nvSpPr>
            <p:cNvPr id="437"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15"/>
          <p:cNvGrpSpPr/>
          <p:nvPr/>
        </p:nvGrpSpPr>
        <p:grpSpPr>
          <a:xfrm>
            <a:off x="-9360" y="-19080"/>
            <a:ext cx="9144000" cy="147600"/>
            <a:chOff x="-9360" y="-19080"/>
            <a:chExt cx="9144000" cy="147600"/>
          </a:xfrm>
        </p:grpSpPr>
        <p:sp>
          <p:nvSpPr>
            <p:cNvPr id="439" name="Rectangle 16"/>
            <p:cNvSpPr/>
            <p:nvPr/>
          </p:nvSpPr>
          <p:spPr>
            <a:xfrm>
              <a:off x="-9360" y="-19080"/>
              <a:ext cx="9144000" cy="1476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7"/>
            <p:cNvSpPr/>
            <p:nvPr/>
          </p:nvSpPr>
          <p:spPr>
            <a:xfrm>
              <a:off x="5486760" y="-19080"/>
              <a:ext cx="1096920" cy="147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8"/>
            <p:cNvSpPr/>
            <p:nvPr/>
          </p:nvSpPr>
          <p:spPr>
            <a:xfrm>
              <a:off x="6583680" y="-19080"/>
              <a:ext cx="1096920" cy="147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9"/>
            <p:cNvSpPr/>
            <p:nvPr/>
          </p:nvSpPr>
          <p:spPr>
            <a:xfrm>
              <a:off x="7680600" y="-19080"/>
              <a:ext cx="1096920" cy="147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5" name="PlaceHolder 3"/>
          <p:cNvSpPr>
            <a:spLocks noGrp="1"/>
          </p:cNvSpPr>
          <p:nvPr>
            <p:ph type="dt" idx="27"/>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203F-9EA6-4AFF-9125-9FBDDE37B236}"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44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2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EFA1-0D91-4CE2-94C6-74CF41F0688D}"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4" name="Rectangle 6"/>
          <p:cNvGrpSpPr/>
          <p:nvPr/>
        </p:nvGrpSpPr>
        <p:grpSpPr>
          <a:xfrm>
            <a:off x="-12600" y="-6480"/>
            <a:ext cx="9156600" cy="6297840"/>
            <a:chOff x="-12600" y="-6480"/>
            <a:chExt cx="9156600" cy="6297840"/>
          </a:xfrm>
        </p:grpSpPr>
        <p:pic>
          <p:nvPicPr>
            <p:cNvPr id="485" name="Rectangle 6" descr=""/>
            <p:cNvPicPr/>
            <p:nvPr/>
          </p:nvPicPr>
          <p:blipFill>
            <a:blip r:embed="rId3"/>
            <a:stretch/>
          </p:blipFill>
          <p:spPr>
            <a:xfrm>
              <a:off x="-12600" y="-6480"/>
              <a:ext cx="9156600" cy="6297840"/>
            </a:xfrm>
            <a:prstGeom prst="rect">
              <a:avLst/>
            </a:prstGeom>
            <a:ln w="0">
              <a:noFill/>
            </a:ln>
          </p:spPr>
        </p:pic>
        <p:sp>
          <p:nvSpPr>
            <p:cNvPr id="486"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Group 7"/>
          <p:cNvGrpSpPr/>
          <p:nvPr/>
        </p:nvGrpSpPr>
        <p:grpSpPr>
          <a:xfrm>
            <a:off x="0" y="1371600"/>
            <a:ext cx="9144000" cy="73080"/>
            <a:chOff x="0" y="1371600"/>
            <a:chExt cx="9144000" cy="73080"/>
          </a:xfrm>
        </p:grpSpPr>
        <p:sp>
          <p:nvSpPr>
            <p:cNvPr id="488" name="Rectangle 8"/>
            <p:cNvSpPr/>
            <p:nvPr/>
          </p:nvSpPr>
          <p:spPr>
            <a:xfrm flipH="1">
              <a:off x="0" y="13716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flipH="1">
              <a:off x="2865240" y="13716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1767960" y="13716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669600" y="13716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4" name="PlaceHolder 3"/>
          <p:cNvSpPr>
            <a:spLocks noGrp="1"/>
          </p:cNvSpPr>
          <p:nvPr>
            <p:ph type="dt" idx="30"/>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755A-55B8-493E-8344-D13C4B29D1F5}"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495"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CA67-FA12-4C44-BF91-3AD5D6086726}"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533" name="Rectangle 6"/>
          <p:cNvGrpSpPr/>
          <p:nvPr/>
        </p:nvGrpSpPr>
        <p:grpSpPr>
          <a:xfrm>
            <a:off x="-12600" y="-6480"/>
            <a:ext cx="9156600" cy="6297840"/>
            <a:chOff x="-12600" y="-6480"/>
            <a:chExt cx="9156600" cy="6297840"/>
          </a:xfrm>
        </p:grpSpPr>
        <p:pic>
          <p:nvPicPr>
            <p:cNvPr id="534" name="Rectangle 6" descr=""/>
            <p:cNvPicPr/>
            <p:nvPr/>
          </p:nvPicPr>
          <p:blipFill>
            <a:blip r:embed="rId2"/>
            <a:stretch/>
          </p:blipFill>
          <p:spPr>
            <a:xfrm>
              <a:off x="-12600" y="-6480"/>
              <a:ext cx="9156600" cy="6297840"/>
            </a:xfrm>
            <a:prstGeom prst="rect">
              <a:avLst/>
            </a:prstGeom>
            <a:ln w="0">
              <a:noFill/>
            </a:ln>
          </p:spPr>
        </p:pic>
        <p:sp>
          <p:nvSpPr>
            <p:cNvPr id="535"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6"/>
          <p:cNvGrpSpPr/>
          <p:nvPr/>
        </p:nvGrpSpPr>
        <p:grpSpPr>
          <a:xfrm>
            <a:off x="6729120" y="-12600"/>
            <a:ext cx="73080" cy="6867360"/>
            <a:chOff x="6729120" y="-12600"/>
            <a:chExt cx="73080" cy="6867360"/>
          </a:xfrm>
        </p:grpSpPr>
        <p:sp>
          <p:nvSpPr>
            <p:cNvPr id="537" name="Rectangle 7"/>
            <p:cNvSpPr/>
            <p:nvPr/>
          </p:nvSpPr>
          <p:spPr>
            <a:xfrm flipH="1" rot="5400000">
              <a:off x="3331440" y="3384360"/>
              <a:ext cx="686736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8"/>
            <p:cNvSpPr/>
            <p:nvPr/>
          </p:nvSpPr>
          <p:spPr>
            <a:xfrm flipH="1" rot="5400000">
              <a:off x="6352560" y="2514600"/>
              <a:ext cx="82548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flipH="1" rot="5400000">
              <a:off x="6353280" y="1689840"/>
              <a:ext cx="82368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flipH="1" rot="5400000">
              <a:off x="6353280" y="865800"/>
              <a:ext cx="82368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3" name="PlaceHolder 3"/>
          <p:cNvSpPr>
            <a:spLocks noGrp="1"/>
          </p:cNvSpPr>
          <p:nvPr>
            <p:ph type="dt" idx="33"/>
          </p:nvPr>
        </p:nvSpPr>
        <p:spPr>
          <a:xfrm>
            <a:off x="6838920" y="6356520"/>
            <a:ext cx="18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B04B-0AB6-45EF-BD89-509E122F3DC4}"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544"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1F99-57AA-4F5F-800E-17E7B89DF18B}"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12600" y="-6480"/>
            <a:ext cx="9156600" cy="6297840"/>
            <a:chOff x="-12600" y="-6480"/>
            <a:chExt cx="9156600" cy="6297840"/>
          </a:xfrm>
        </p:grpSpPr>
        <p:pic>
          <p:nvPicPr>
            <p:cNvPr id="45" name="Rectangle 6" descr=""/>
            <p:cNvPicPr/>
            <p:nvPr/>
          </p:nvPicPr>
          <p:blipFill>
            <a:blip r:embed="rId3"/>
            <a:stretch/>
          </p:blipFill>
          <p:spPr>
            <a:xfrm>
              <a:off x="-12600" y="-6480"/>
              <a:ext cx="9156600" cy="6297840"/>
            </a:xfrm>
            <a:prstGeom prst="rect">
              <a:avLst/>
            </a:prstGeom>
            <a:ln w="0">
              <a:noFill/>
            </a:ln>
          </p:spPr>
        </p:pic>
        <p:sp>
          <p:nvSpPr>
            <p:cNvPr id="46"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12"/>
            <p:cNvSpPr/>
            <p:nvPr/>
          </p:nvSpPr>
          <p:spPr>
            <a:xfrm>
              <a:off x="0" y="3268800"/>
              <a:ext cx="9144000" cy="145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5181480" y="3268800"/>
              <a:ext cx="1096920" cy="14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4"/>
            <p:cNvSpPr/>
            <p:nvPr/>
          </p:nvSpPr>
          <p:spPr>
            <a:xfrm>
              <a:off x="6278760" y="3268800"/>
              <a:ext cx="1096920" cy="145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5"/>
            <p:cNvSpPr/>
            <p:nvPr/>
          </p:nvSpPr>
          <p:spPr>
            <a:xfrm>
              <a:off x="7375680" y="3268800"/>
              <a:ext cx="1098360" cy="1458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2847-1D91-4A74-917D-2B0CB8A4EAFF}"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C34D-9B74-413A-96AE-EF7105CADEF8}"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93" name="Rectangle 6"/>
          <p:cNvGrpSpPr/>
          <p:nvPr/>
        </p:nvGrpSpPr>
        <p:grpSpPr>
          <a:xfrm>
            <a:off x="-12600" y="-6480"/>
            <a:ext cx="9156600" cy="6297840"/>
            <a:chOff x="-12600" y="-6480"/>
            <a:chExt cx="9156600" cy="6297840"/>
          </a:xfrm>
        </p:grpSpPr>
        <p:pic>
          <p:nvPicPr>
            <p:cNvPr id="94" name="Rectangle 6" descr=""/>
            <p:cNvPicPr/>
            <p:nvPr/>
          </p:nvPicPr>
          <p:blipFill>
            <a:blip r:embed="rId2"/>
            <a:stretch/>
          </p:blipFill>
          <p:spPr>
            <a:xfrm>
              <a:off x="-12600" y="-6480"/>
              <a:ext cx="9156600" cy="6297840"/>
            </a:xfrm>
            <a:prstGeom prst="rect">
              <a:avLst/>
            </a:prstGeom>
            <a:ln w="0">
              <a:noFill/>
            </a:ln>
          </p:spPr>
        </p:pic>
        <p:sp>
          <p:nvSpPr>
            <p:cNvPr id="95"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143000"/>
            <a:ext cx="9144000" cy="73080"/>
            <a:chOff x="0" y="1143000"/>
            <a:chExt cx="9144000" cy="73080"/>
          </a:xfrm>
        </p:grpSpPr>
        <p:sp>
          <p:nvSpPr>
            <p:cNvPr id="97" name="Rectangle 14"/>
            <p:cNvSpPr/>
            <p:nvPr/>
          </p:nvSpPr>
          <p:spPr>
            <a:xfrm>
              <a:off x="0" y="11430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5"/>
            <p:cNvSpPr/>
            <p:nvPr/>
          </p:nvSpPr>
          <p:spPr>
            <a:xfrm>
              <a:off x="5181480" y="11430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6"/>
            <p:cNvSpPr/>
            <p:nvPr/>
          </p:nvSpPr>
          <p:spPr>
            <a:xfrm>
              <a:off x="6278760" y="11430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7"/>
            <p:cNvSpPr/>
            <p:nvPr/>
          </p:nvSpPr>
          <p:spPr>
            <a:xfrm>
              <a:off x="7375680" y="11430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sldNum" idx="8"/>
          </p:nvPr>
        </p:nvSpPr>
        <p:spPr>
          <a:xfrm>
            <a:off x="8675280" y="6492960"/>
            <a:ext cx="468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1BB6-4D97-4220-9381-85D7B16A7E0F}" type="slidenum">
              <a:rPr b="1" lang="es-AR" sz="1000" spc="-1" strike="noStrike">
                <a:solidFill>
                  <a:srgbClr val="000000"/>
                </a:solidFill>
                <a:latin typeface="Gill Sans MT"/>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141" name="Rectangle 6"/>
          <p:cNvGrpSpPr/>
          <p:nvPr/>
        </p:nvGrpSpPr>
        <p:grpSpPr>
          <a:xfrm>
            <a:off x="-12600" y="-6480"/>
            <a:ext cx="9156600" cy="6297840"/>
            <a:chOff x="-12600" y="-6480"/>
            <a:chExt cx="9156600" cy="6297840"/>
          </a:xfrm>
        </p:grpSpPr>
        <p:pic>
          <p:nvPicPr>
            <p:cNvPr id="142" name="Rectangle 6" descr=""/>
            <p:cNvPicPr/>
            <p:nvPr/>
          </p:nvPicPr>
          <p:blipFill>
            <a:blip r:embed="rId2"/>
            <a:stretch/>
          </p:blipFill>
          <p:spPr>
            <a:xfrm>
              <a:off x="-12600" y="-6480"/>
              <a:ext cx="9156600" cy="6297840"/>
            </a:xfrm>
            <a:prstGeom prst="rect">
              <a:avLst/>
            </a:prstGeom>
            <a:ln w="0">
              <a:noFill/>
            </a:ln>
          </p:spPr>
        </p:pic>
        <p:sp>
          <p:nvSpPr>
            <p:cNvPr id="143"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Group 12"/>
          <p:cNvGrpSpPr/>
          <p:nvPr/>
        </p:nvGrpSpPr>
        <p:grpSpPr>
          <a:xfrm>
            <a:off x="0" y="4229280"/>
            <a:ext cx="9144000" cy="145800"/>
            <a:chOff x="0" y="4229280"/>
            <a:chExt cx="9144000" cy="145800"/>
          </a:xfrm>
        </p:grpSpPr>
        <p:sp>
          <p:nvSpPr>
            <p:cNvPr id="145" name="Rectangle 13"/>
            <p:cNvSpPr/>
            <p:nvPr/>
          </p:nvSpPr>
          <p:spPr>
            <a:xfrm flipH="1">
              <a:off x="0" y="4229280"/>
              <a:ext cx="9144000" cy="145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flipH="1">
              <a:off x="2865240" y="4229280"/>
              <a:ext cx="1096920" cy="145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flipH="1">
              <a:off x="1767960" y="4229280"/>
              <a:ext cx="1096920" cy="145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flipH="1">
              <a:off x="669600" y="4229280"/>
              <a:ext cx="1098360" cy="1458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1" name="PlaceHolder 3"/>
          <p:cNvSpPr>
            <a:spLocks noGrp="1"/>
          </p:cNvSpPr>
          <p:nvPr>
            <p:ph type="dt" idx="9"/>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8AFC-FAE3-46E2-B787-37F98D404A64}"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152"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6CC6-4812-4DC1-814B-8B93F5682596}"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190" name="Rectangle 6"/>
          <p:cNvGrpSpPr/>
          <p:nvPr/>
        </p:nvGrpSpPr>
        <p:grpSpPr>
          <a:xfrm>
            <a:off x="-12600" y="-6480"/>
            <a:ext cx="9156600" cy="6297840"/>
            <a:chOff x="-12600" y="-6480"/>
            <a:chExt cx="9156600" cy="6297840"/>
          </a:xfrm>
        </p:grpSpPr>
        <p:pic>
          <p:nvPicPr>
            <p:cNvPr id="191" name="Rectangle 6" descr=""/>
            <p:cNvPicPr/>
            <p:nvPr/>
          </p:nvPicPr>
          <p:blipFill>
            <a:blip r:embed="rId2"/>
            <a:stretch/>
          </p:blipFill>
          <p:spPr>
            <a:xfrm>
              <a:off x="-12600" y="-6480"/>
              <a:ext cx="9156600" cy="6297840"/>
            </a:xfrm>
            <a:prstGeom prst="rect">
              <a:avLst/>
            </a:prstGeom>
            <a:ln w="0">
              <a:noFill/>
            </a:ln>
          </p:spPr>
        </p:pic>
        <p:sp>
          <p:nvSpPr>
            <p:cNvPr id="192"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14"/>
          <p:cNvGrpSpPr/>
          <p:nvPr/>
        </p:nvGrpSpPr>
        <p:grpSpPr>
          <a:xfrm>
            <a:off x="0" y="1371600"/>
            <a:ext cx="9144000" cy="73080"/>
            <a:chOff x="0" y="1371600"/>
            <a:chExt cx="9144000" cy="73080"/>
          </a:xfrm>
        </p:grpSpPr>
        <p:sp>
          <p:nvSpPr>
            <p:cNvPr id="194" name="Rectangle 15"/>
            <p:cNvSpPr/>
            <p:nvPr/>
          </p:nvSpPr>
          <p:spPr>
            <a:xfrm>
              <a:off x="0" y="13716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6"/>
            <p:cNvSpPr/>
            <p:nvPr/>
          </p:nvSpPr>
          <p:spPr>
            <a:xfrm>
              <a:off x="5181480" y="13716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7"/>
            <p:cNvSpPr/>
            <p:nvPr/>
          </p:nvSpPr>
          <p:spPr>
            <a:xfrm>
              <a:off x="6278760" y="13716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8"/>
            <p:cNvSpPr/>
            <p:nvPr/>
          </p:nvSpPr>
          <p:spPr>
            <a:xfrm>
              <a:off x="7375680" y="13716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0" name="PlaceHolder 3"/>
          <p:cNvSpPr>
            <a:spLocks noGrp="1"/>
          </p:cNvSpPr>
          <p:nvPr>
            <p:ph type="dt" idx="12"/>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F728-D877-4ECD-AD65-530E3B1F244A}"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20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8239-C9AF-40D1-83E6-C65D0746E192}"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239" name="Rectangle 6"/>
          <p:cNvGrpSpPr/>
          <p:nvPr/>
        </p:nvGrpSpPr>
        <p:grpSpPr>
          <a:xfrm>
            <a:off x="-12600" y="-6480"/>
            <a:ext cx="9156600" cy="6297840"/>
            <a:chOff x="-12600" y="-6480"/>
            <a:chExt cx="9156600" cy="6297840"/>
          </a:xfrm>
        </p:grpSpPr>
        <p:pic>
          <p:nvPicPr>
            <p:cNvPr id="240" name="Rectangle 6" descr=""/>
            <p:cNvPicPr/>
            <p:nvPr/>
          </p:nvPicPr>
          <p:blipFill>
            <a:blip r:embed="rId2"/>
            <a:stretch/>
          </p:blipFill>
          <p:spPr>
            <a:xfrm>
              <a:off x="-12600" y="-6480"/>
              <a:ext cx="9156600" cy="6297840"/>
            </a:xfrm>
            <a:prstGeom prst="rect">
              <a:avLst/>
            </a:prstGeom>
            <a:ln w="0">
              <a:noFill/>
            </a:ln>
          </p:spPr>
        </p:pic>
        <p:sp>
          <p:nvSpPr>
            <p:cNvPr id="241"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Group 16"/>
          <p:cNvGrpSpPr/>
          <p:nvPr/>
        </p:nvGrpSpPr>
        <p:grpSpPr>
          <a:xfrm>
            <a:off x="0" y="1371600"/>
            <a:ext cx="9144000" cy="73080"/>
            <a:chOff x="0" y="1371600"/>
            <a:chExt cx="9144000" cy="73080"/>
          </a:xfrm>
        </p:grpSpPr>
        <p:sp>
          <p:nvSpPr>
            <p:cNvPr id="243" name="Rectangle 17"/>
            <p:cNvSpPr/>
            <p:nvPr/>
          </p:nvSpPr>
          <p:spPr>
            <a:xfrm>
              <a:off x="0" y="13716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8"/>
            <p:cNvSpPr/>
            <p:nvPr/>
          </p:nvSpPr>
          <p:spPr>
            <a:xfrm>
              <a:off x="5181480" y="13716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9"/>
            <p:cNvSpPr/>
            <p:nvPr/>
          </p:nvSpPr>
          <p:spPr>
            <a:xfrm>
              <a:off x="6278760" y="13716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0"/>
            <p:cNvSpPr/>
            <p:nvPr/>
          </p:nvSpPr>
          <p:spPr>
            <a:xfrm>
              <a:off x="7375680" y="13716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49" name="PlaceHolder 3"/>
          <p:cNvSpPr>
            <a:spLocks noGrp="1"/>
          </p:cNvSpPr>
          <p:nvPr>
            <p:ph type="dt" idx="15"/>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629E-7D04-4992-8394-CB06C2314654}"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250"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1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1C29-3E33-433B-88F8-122808899CD0}"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288" name="Rectangle 6"/>
          <p:cNvGrpSpPr/>
          <p:nvPr/>
        </p:nvGrpSpPr>
        <p:grpSpPr>
          <a:xfrm>
            <a:off x="-12600" y="-6480"/>
            <a:ext cx="9156600" cy="6297840"/>
            <a:chOff x="-12600" y="-6480"/>
            <a:chExt cx="9156600" cy="6297840"/>
          </a:xfrm>
        </p:grpSpPr>
        <p:pic>
          <p:nvPicPr>
            <p:cNvPr id="289" name="Rectangle 6" descr=""/>
            <p:cNvPicPr/>
            <p:nvPr/>
          </p:nvPicPr>
          <p:blipFill>
            <a:blip r:embed="rId2"/>
            <a:stretch/>
          </p:blipFill>
          <p:spPr>
            <a:xfrm>
              <a:off x="-12600" y="-6480"/>
              <a:ext cx="9156600" cy="6297840"/>
            </a:xfrm>
            <a:prstGeom prst="rect">
              <a:avLst/>
            </a:prstGeom>
            <a:ln w="0">
              <a:noFill/>
            </a:ln>
          </p:spPr>
        </p:pic>
        <p:sp>
          <p:nvSpPr>
            <p:cNvPr id="290"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12"/>
          <p:cNvGrpSpPr/>
          <p:nvPr/>
        </p:nvGrpSpPr>
        <p:grpSpPr>
          <a:xfrm>
            <a:off x="0" y="1371600"/>
            <a:ext cx="9144000" cy="73080"/>
            <a:chOff x="0" y="1371600"/>
            <a:chExt cx="9144000" cy="73080"/>
          </a:xfrm>
        </p:grpSpPr>
        <p:sp>
          <p:nvSpPr>
            <p:cNvPr id="292" name="Rectangle 13"/>
            <p:cNvSpPr/>
            <p:nvPr/>
          </p:nvSpPr>
          <p:spPr>
            <a:xfrm flipH="1">
              <a:off x="0" y="13716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4"/>
            <p:cNvSpPr/>
            <p:nvPr/>
          </p:nvSpPr>
          <p:spPr>
            <a:xfrm flipH="1">
              <a:off x="2865240" y="13716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5"/>
            <p:cNvSpPr/>
            <p:nvPr/>
          </p:nvSpPr>
          <p:spPr>
            <a:xfrm flipH="1">
              <a:off x="1767960" y="13716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6"/>
            <p:cNvSpPr/>
            <p:nvPr/>
          </p:nvSpPr>
          <p:spPr>
            <a:xfrm flipH="1">
              <a:off x="669600" y="13716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8" name="PlaceHolder 3"/>
          <p:cNvSpPr>
            <a:spLocks noGrp="1"/>
          </p:cNvSpPr>
          <p:nvPr>
            <p:ph type="dt" idx="18"/>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37AD-E845-4A77-A24F-467F16063B6B}"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299"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0B3A-17E5-4BFD-B649-6D8339E9015F}"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7" name="Rectangle 6"/>
          <p:cNvGrpSpPr/>
          <p:nvPr/>
        </p:nvGrpSpPr>
        <p:grpSpPr>
          <a:xfrm>
            <a:off x="-12600" y="-6480"/>
            <a:ext cx="9156600" cy="6297840"/>
            <a:chOff x="-12600" y="-6480"/>
            <a:chExt cx="9156600" cy="6297840"/>
          </a:xfrm>
        </p:grpSpPr>
        <p:pic>
          <p:nvPicPr>
            <p:cNvPr id="338" name="Rectangle 6" descr=""/>
            <p:cNvPicPr/>
            <p:nvPr/>
          </p:nvPicPr>
          <p:blipFill>
            <a:blip r:embed="rId3"/>
            <a:stretch/>
          </p:blipFill>
          <p:spPr>
            <a:xfrm>
              <a:off x="-12600" y="-6480"/>
              <a:ext cx="9156600" cy="6297840"/>
            </a:xfrm>
            <a:prstGeom prst="rect">
              <a:avLst/>
            </a:prstGeom>
            <a:ln w="0">
              <a:noFill/>
            </a:ln>
          </p:spPr>
        </p:pic>
        <p:sp>
          <p:nvSpPr>
            <p:cNvPr id="339"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Group 10"/>
          <p:cNvGrpSpPr/>
          <p:nvPr/>
        </p:nvGrpSpPr>
        <p:grpSpPr>
          <a:xfrm>
            <a:off x="-9360" y="-19080"/>
            <a:ext cx="9144000" cy="147600"/>
            <a:chOff x="-9360" y="-19080"/>
            <a:chExt cx="9144000" cy="147600"/>
          </a:xfrm>
        </p:grpSpPr>
        <p:sp>
          <p:nvSpPr>
            <p:cNvPr id="341" name="Rectangle 11"/>
            <p:cNvSpPr/>
            <p:nvPr/>
          </p:nvSpPr>
          <p:spPr>
            <a:xfrm>
              <a:off x="-9360" y="-19080"/>
              <a:ext cx="9144000" cy="1476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2"/>
            <p:cNvSpPr/>
            <p:nvPr/>
          </p:nvSpPr>
          <p:spPr>
            <a:xfrm>
              <a:off x="5486760" y="-19080"/>
              <a:ext cx="1096920" cy="147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3"/>
            <p:cNvSpPr/>
            <p:nvPr/>
          </p:nvSpPr>
          <p:spPr>
            <a:xfrm>
              <a:off x="6583680" y="-19080"/>
              <a:ext cx="1096920" cy="147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4"/>
            <p:cNvSpPr/>
            <p:nvPr/>
          </p:nvSpPr>
          <p:spPr>
            <a:xfrm>
              <a:off x="7680600" y="-19080"/>
              <a:ext cx="1096920" cy="147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7" name="PlaceHolder 3"/>
          <p:cNvSpPr>
            <a:spLocks noGrp="1"/>
          </p:cNvSpPr>
          <p:nvPr>
            <p:ph type="dt" idx="21"/>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7E5D-9496-4C63-A0CD-8EA7D9C8615D}"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34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9E78-46E3-4BA7-88C2-37303CF03579}"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pSp>
        <p:nvGrpSpPr>
          <p:cNvPr id="386" name="Rectangle 6"/>
          <p:cNvGrpSpPr/>
          <p:nvPr/>
        </p:nvGrpSpPr>
        <p:grpSpPr>
          <a:xfrm>
            <a:off x="-12600" y="-6480"/>
            <a:ext cx="9156600" cy="6297840"/>
            <a:chOff x="-12600" y="-6480"/>
            <a:chExt cx="9156600" cy="6297840"/>
          </a:xfrm>
        </p:grpSpPr>
        <p:pic>
          <p:nvPicPr>
            <p:cNvPr id="387" name="Rectangle 6" descr=""/>
            <p:cNvPicPr/>
            <p:nvPr/>
          </p:nvPicPr>
          <p:blipFill>
            <a:blip r:embed="rId2"/>
            <a:stretch/>
          </p:blipFill>
          <p:spPr>
            <a:xfrm>
              <a:off x="-12600" y="-6480"/>
              <a:ext cx="9156600" cy="6297840"/>
            </a:xfrm>
            <a:prstGeom prst="rect">
              <a:avLst/>
            </a:prstGeom>
            <a:ln w="0">
              <a:noFill/>
            </a:ln>
          </p:spPr>
        </p:pic>
        <p:sp>
          <p:nvSpPr>
            <p:cNvPr id="388" name=""/>
            <p:cNvSpPr/>
            <p:nvPr/>
          </p:nvSpPr>
          <p:spPr>
            <a:xfrm>
              <a:off x="-6480" y="0"/>
              <a:ext cx="9144000" cy="628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13"/>
          <p:cNvGrpSpPr/>
          <p:nvPr/>
        </p:nvGrpSpPr>
        <p:grpSpPr>
          <a:xfrm>
            <a:off x="0" y="1143000"/>
            <a:ext cx="9144000" cy="73080"/>
            <a:chOff x="0" y="1143000"/>
            <a:chExt cx="9144000" cy="73080"/>
          </a:xfrm>
        </p:grpSpPr>
        <p:sp>
          <p:nvSpPr>
            <p:cNvPr id="390" name="Rectangle 14"/>
            <p:cNvSpPr/>
            <p:nvPr/>
          </p:nvSpPr>
          <p:spPr>
            <a:xfrm flipH="1">
              <a:off x="0" y="1143000"/>
              <a:ext cx="9144000" cy="73080"/>
            </a:xfrm>
            <a:prstGeom prst="rect">
              <a:avLst/>
            </a:prstGeom>
            <a:solidFill>
              <a:srgbClr val="17375e"/>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5"/>
            <p:cNvSpPr/>
            <p:nvPr/>
          </p:nvSpPr>
          <p:spPr>
            <a:xfrm flipH="1">
              <a:off x="2865240" y="1143000"/>
              <a:ext cx="1096920" cy="73080"/>
            </a:xfrm>
            <a:prstGeom prst="rect">
              <a:avLst/>
            </a:prstGeom>
            <a:solidFill>
              <a:srgbClr val="4f81b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6"/>
            <p:cNvSpPr/>
            <p:nvPr/>
          </p:nvSpPr>
          <p:spPr>
            <a:xfrm flipH="1">
              <a:off x="1767960" y="1143000"/>
              <a:ext cx="1096920" cy="73080"/>
            </a:xfrm>
            <a:prstGeom prst="rect">
              <a:avLst/>
            </a:prstGeom>
            <a:solidFill>
              <a:srgbClr val="c0504d"/>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7"/>
            <p:cNvSpPr/>
            <p:nvPr/>
          </p:nvSpPr>
          <p:spPr>
            <a:xfrm flipH="1">
              <a:off x="669600" y="1143000"/>
              <a:ext cx="1098360" cy="73080"/>
            </a:xfrm>
            <a:prstGeom prst="rect">
              <a:avLst/>
            </a:prstGeom>
            <a:solidFill>
              <a:srgbClr val="9bbb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8064a2"/>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4bacc6"/>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f79646"/>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c0504d"/>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6" name="PlaceHolder 3"/>
          <p:cNvSpPr>
            <a:spLocks noGrp="1"/>
          </p:cNvSpPr>
          <p:nvPr>
            <p:ph type="dt" idx="24"/>
          </p:nvPr>
        </p:nvSpPr>
        <p:spPr>
          <a:xfrm>
            <a:off x="657396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91C5-3ACF-46C0-82CB-1ECBA019E7EE}" type="datetime">
              <a:rPr b="0" lang="es-AR" sz="1200" spc="-1" strike="noStrike">
                <a:solidFill>
                  <a:srgbClr val="000000"/>
                </a:solidFill>
                <a:latin typeface="Gill Sans MT"/>
              </a:rPr>
              <a:t>29/07/26</a:t>
            </a:fld>
            <a:endParaRPr b="0" lang="en-US" sz="1200" spc="-1" strike="noStrike">
              <a:solidFill>
                <a:srgbClr val="000000"/>
              </a:solidFill>
              <a:latin typeface="Times New Roman"/>
            </a:endParaRPr>
          </a:p>
        </p:txBody>
      </p:sp>
      <p:sp>
        <p:nvSpPr>
          <p:cNvPr id="39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5"/>
          <p:cNvSpPr>
            <a:spLocks noGrp="1"/>
          </p:cNvSpPr>
          <p:nvPr>
            <p:ph type="sldNum" idx="2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1D96-788B-4DAC-BBDF-3198D3F3308F}" type="slidenum">
              <a:rPr b="0" lang="es-AR"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714240" y="571320"/>
            <a:ext cx="7786800" cy="3143160"/>
          </a:xfrm>
          <a:prstGeom prst="rect">
            <a:avLst/>
          </a:prstGeom>
          <a:solidFill>
            <a:srgbClr val="d7e4bd"/>
          </a:solidFill>
          <a:ln w="9360">
            <a:solidFill>
              <a:srgbClr val="002060"/>
            </a:solidFill>
            <a:miter/>
          </a:ln>
        </p:spPr>
        <p:txBody>
          <a:bodyPr anchor="ctr">
            <a:norm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Bauhaus 93"/>
              </a:rPr>
              <a:t>EL IMPUESTO A LAS SALIDAS NO DOCUMENTADAS</a:t>
            </a:r>
            <a:endParaRPr b="0" lang="en-US" sz="5400" spc="-1" strike="noStrike">
              <a:solidFill>
                <a:srgbClr val="000000"/>
              </a:solidFill>
              <a:latin typeface="Gill Sans MT"/>
            </a:endParaRPr>
          </a:p>
        </p:txBody>
      </p:sp>
      <p:sp>
        <p:nvSpPr>
          <p:cNvPr id="583" name="3 CuadroTexto"/>
          <p:cNvSpPr/>
          <p:nvPr/>
        </p:nvSpPr>
        <p:spPr>
          <a:xfrm>
            <a:off x="714240" y="5857920"/>
            <a:ext cx="1785960" cy="785880"/>
          </a:xfrm>
          <a:prstGeom prst="rect">
            <a:avLst/>
          </a:prstGeom>
          <a:solidFill>
            <a:srgbClr val="d7e4bd"/>
          </a:solid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auhaus 93"/>
              </a:rPr>
              <a:t>CA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Bauhaus 93"/>
              </a:rPr>
              <a:t>9/11/11</a:t>
            </a:r>
            <a:endParaRPr b="0" lang="en-US" sz="2000" spc="-1" strike="noStrike">
              <a:solidFill>
                <a:srgbClr val="000000"/>
              </a:solidFill>
              <a:latin typeface="Arial"/>
            </a:endParaRPr>
          </a:p>
        </p:txBody>
      </p:sp>
      <p:sp>
        <p:nvSpPr>
          <p:cNvPr id="584" name="4 CuadroTexto"/>
          <p:cNvSpPr/>
          <p:nvPr/>
        </p:nvSpPr>
        <p:spPr>
          <a:xfrm>
            <a:off x="714240" y="4500720"/>
            <a:ext cx="7786800" cy="785520"/>
          </a:xfrm>
          <a:prstGeom prst="rect">
            <a:avLst/>
          </a:prstGeom>
          <a:solidFill>
            <a:srgbClr val="d7e4bd"/>
          </a:solid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Bauhaus 93"/>
              </a:rPr>
              <a:t>HUMBERTO J. BERTAZZA</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14200" y="1472760"/>
            <a:ext cx="8786880" cy="4813560"/>
          </a:xfrm>
          <a:prstGeom prst="rect">
            <a:avLst/>
          </a:prstGeom>
          <a:noFill/>
          <a:ln w="0">
            <a:noFill/>
          </a:ln>
        </p:spPr>
        <p:txBody>
          <a:bodyPr anchor="t">
            <a:normAutofit fontScale="91000"/>
          </a:bodyPr>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Gill Sans MT"/>
              </a:rPr>
              <a:t>LA POSICIÓN FISCAL</a:t>
            </a:r>
            <a:endParaRPr b="0" lang="en-US" sz="1800" spc="-1" strike="noStrike">
              <a:solidFill>
                <a:srgbClr val="000000"/>
              </a:solidFill>
              <a:latin typeface="Gill Sans MT"/>
            </a:endParaRPr>
          </a:p>
          <a:p>
            <a:pPr marL="312120" indent="-312120">
              <a:spcBef>
                <a:spcPts val="451"/>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Se impugnaron las facturas y recibos de 3 proveedores por adolecer de la debida autenticidad y se consideró a las erogaciones como rentas en cabeza de los beneficiarios no identificados. Se aplicó 200% multa por defraudación</a:t>
            </a:r>
            <a:endParaRPr b="0" lang="en-US" sz="1800" spc="-1" strike="noStrike">
              <a:solidFill>
                <a:srgbClr val="000000"/>
              </a:solidFill>
              <a:latin typeface="Gill Sans MT"/>
            </a:endParaRPr>
          </a:p>
          <a:p>
            <a:pPr marL="312120" indent="-3121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Gill Sans MT"/>
              </a:rPr>
              <a:t>INSTANCIAS ANTERIORES</a:t>
            </a:r>
            <a:endParaRPr b="0" lang="en-US" sz="1800" spc="-1" strike="noStrike">
              <a:solidFill>
                <a:srgbClr val="000000"/>
              </a:solidFill>
              <a:latin typeface="Gill Sans MT"/>
            </a:endParaRPr>
          </a:p>
          <a:p>
            <a:pPr marL="312120" indent="-312120">
              <a:spcBef>
                <a:spcPts val="451"/>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l TFN y la Cámara revocaron la resolución de la AFIP</a:t>
            </a:r>
            <a:endParaRPr b="0" lang="en-US" sz="1800" spc="-1" strike="noStrike">
              <a:solidFill>
                <a:srgbClr val="000000"/>
              </a:solidFill>
              <a:latin typeface="Gill Sans MT"/>
            </a:endParaRPr>
          </a:p>
          <a:p>
            <a:pPr marL="312120" indent="-3121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Gill Sans MT"/>
              </a:rPr>
              <a:t>POSICIÓN CORTE</a:t>
            </a:r>
            <a:endParaRPr b="0" lang="en-US" sz="1800" spc="-1" strike="noStrike">
              <a:solidFill>
                <a:srgbClr val="000000"/>
              </a:solidFill>
              <a:latin typeface="Gill Sans MT"/>
            </a:endParaRPr>
          </a:p>
          <a:p>
            <a:pPr marL="312120" indent="-312120">
              <a:spcBef>
                <a:spcPts val="451"/>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Revoca sentencia apelada y confirma DO.</a:t>
            </a:r>
            <a:endParaRPr b="0" lang="en-US" sz="1800" spc="-1" strike="noStrike">
              <a:solidFill>
                <a:srgbClr val="000000"/>
              </a:solidFill>
              <a:latin typeface="Gill Sans MT"/>
            </a:endParaRPr>
          </a:p>
          <a:p>
            <a:pPr marL="312120" indent="-312120">
              <a:spcBef>
                <a:spcPts val="451"/>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Los pagos efectuados a los proveedores carecen de documentación respaldatoria válida, ya que tales instrumentos no son aptos para determinar cual fue la contraprestación que la empresa recibió de aquellos ni para individualizar el verdadero beneficiario de las erogaciones (más allá de quienes nominalmente recibieron los fondos).</a:t>
            </a:r>
            <a:endParaRPr b="0" lang="en-US" sz="1800" spc="-1" strike="noStrike">
              <a:solidFill>
                <a:srgbClr val="000000"/>
              </a:solidFill>
              <a:latin typeface="Gill Sans MT"/>
            </a:endParaRPr>
          </a:p>
          <a:p>
            <a:pPr marL="312120" indent="-312120">
              <a:spcBef>
                <a:spcPts val="451"/>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Al haberse realizado actos y emitido documentación carente de sinceridad se ignora cual ha sido la operación económica realmente realizada y quienes y en qué proporción han obtenido los beneficios pecuniarios de ella.</a:t>
            </a:r>
            <a:endParaRPr b="0" lang="en-US" sz="1800" spc="-1" strike="noStrike">
              <a:solidFill>
                <a:srgbClr val="000000"/>
              </a:solidFill>
              <a:latin typeface="Gill Sans MT"/>
            </a:endParaRPr>
          </a:p>
        </p:txBody>
      </p:sp>
      <p:sp>
        <p:nvSpPr>
          <p:cNvPr id="586" name="PlaceHolder 1"/>
          <p:cNvSpPr>
            <a:spLocks noGrp="1"/>
          </p:cNvSpPr>
          <p:nvPr>
            <p:ph type="title"/>
          </p:nvPr>
        </p:nvSpPr>
        <p:spPr>
          <a:xfrm>
            <a:off x="285840" y="-360"/>
            <a:ext cx="853416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t>
            </a:r>
            <a:r>
              <a:rPr b="0" lang="es-AR" sz="3200" spc="-1" strike="noStrike">
                <a:solidFill>
                  <a:srgbClr val="000000"/>
                </a:solidFill>
                <a:latin typeface="Gill Sans MT"/>
              </a:rPr>
              <a:t>RED HOTELERA IBEROAMERICANA SA” CSN, 26/8/03 (I)</a:t>
            </a:r>
            <a:endParaRPr b="0" lang="en-US" sz="3200" spc="-1" strike="noStrike">
              <a:solidFill>
                <a:srgbClr val="ffffff"/>
              </a:solidFill>
              <a:latin typeface="Gill Sans MT"/>
            </a:endParaRPr>
          </a:p>
        </p:txBody>
      </p:sp>
      <p:sp>
        <p:nvSpPr>
          <p:cNvPr id="587" name="3 Marcador de número de diapositiva"/>
          <p:cNvSpPr/>
          <p:nvPr/>
        </p:nvSpPr>
        <p:spPr>
          <a:xfrm>
            <a:off x="8675640" y="6492960"/>
            <a:ext cx="468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0368-D396-4EF1-AF25-22BABD24D601}" type="slidenum">
              <a:rPr b="1"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214200" y="1472760"/>
            <a:ext cx="8786880" cy="4813560"/>
          </a:xfrm>
          <a:prstGeom prst="rect">
            <a:avLst/>
          </a:prstGeom>
          <a:noFill/>
          <a:ln w="0">
            <a:noFill/>
          </a:ln>
        </p:spPr>
        <p:txBody>
          <a:bodyPr anchor="t">
            <a:normAutofit fontScale="90000"/>
          </a:bodyPr>
          <a:p>
            <a:pPr marL="308520" indent="-308520">
              <a:spcBef>
                <a:spcPts val="55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Debe interpretarse que una salida de dinero carece de documentación, a los fines de la LIG, tanto cuando no hay documento alguno referente a ella como en el supuesto en que si bien lo hay, el instrumento carece de aptitud para demostrar la causa de la erogación a individualizar al tratarse de actos carentes de sinceridad.</a:t>
            </a:r>
            <a:endParaRPr b="0" lang="en-US" sz="2200" spc="-1" strike="noStrike">
              <a:solidFill>
                <a:srgbClr val="000000"/>
              </a:solidFill>
              <a:latin typeface="Gill Sans MT"/>
            </a:endParaRPr>
          </a:p>
          <a:p>
            <a:pPr marL="308520" indent="-308520">
              <a:spcBef>
                <a:spcPts val="55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Por aplicación del principio de realidad económica, se impide otorgar relevancia a la mera existencia de un instrumento si se demuestra que éste no refleja la realidad económica.</a:t>
            </a:r>
            <a:endParaRPr b="0" lang="en-US" sz="2200" spc="-1" strike="noStrike">
              <a:solidFill>
                <a:srgbClr val="000000"/>
              </a:solidFill>
              <a:latin typeface="Gill Sans MT"/>
            </a:endParaRPr>
          </a:p>
          <a:p>
            <a:pPr marL="308520" indent="-308520">
              <a:spcBef>
                <a:spcPts val="55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El instituto de las “salidas no documentadas” ha sido adoptado por el legislador para asegurar la íntegra percepción de la renta fiscal en una particular situación en la cual, ante la falta de individualización de los beneficiarios, a cuyo cargo debiera estar el pago del impuesto al rédito percibido, quien hace la erogación queda obligado a abonar sobre ella el tributo y debe hacerlo a título propio (conf., en el mismo sentido, Fallos: 275:83, citado en el mencionado precedente).</a:t>
            </a:r>
            <a:endParaRPr b="0" lang="en-US" sz="2200" spc="-1" strike="noStrike">
              <a:solidFill>
                <a:srgbClr val="000000"/>
              </a:solidFill>
              <a:latin typeface="Gill Sans MT"/>
            </a:endParaRPr>
          </a:p>
        </p:txBody>
      </p:sp>
      <p:sp>
        <p:nvSpPr>
          <p:cNvPr id="589" name="PlaceHolder 1"/>
          <p:cNvSpPr>
            <a:spLocks noGrp="1"/>
          </p:cNvSpPr>
          <p:nvPr>
            <p:ph type="title"/>
          </p:nvPr>
        </p:nvSpPr>
        <p:spPr>
          <a:xfrm>
            <a:off x="285840" y="-360"/>
            <a:ext cx="853416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t>
            </a:r>
            <a:r>
              <a:rPr b="0" lang="es-AR" sz="3200" spc="-1" strike="noStrike">
                <a:solidFill>
                  <a:srgbClr val="000000"/>
                </a:solidFill>
                <a:latin typeface="Gill Sans MT"/>
              </a:rPr>
              <a:t>RED HOTELERA IBEROAMERICANA SA” CSN, 26/8/03 (II)</a:t>
            </a:r>
            <a:endParaRPr b="0" lang="en-US" sz="3200" spc="-1" strike="noStrike">
              <a:solidFill>
                <a:srgbClr val="ffffff"/>
              </a:solidFill>
              <a:latin typeface="Gill Sans MT"/>
            </a:endParaRPr>
          </a:p>
        </p:txBody>
      </p:sp>
      <p:sp>
        <p:nvSpPr>
          <p:cNvPr id="590" name="3 Marcador de número de diapositiva"/>
          <p:cNvSpPr/>
          <p:nvPr/>
        </p:nvSpPr>
        <p:spPr>
          <a:xfrm>
            <a:off x="8675640" y="6492960"/>
            <a:ext cx="468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E3B2-C338-4DD6-BBD0-4C1BCA810132}" type="slidenum">
              <a:rPr b="1"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214200" y="1472760"/>
            <a:ext cx="8786880" cy="48135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Gill Sans MT"/>
              </a:rPr>
              <a:t>HECHOS</a:t>
            </a:r>
            <a:endParaRPr b="0" lang="en-US" sz="2000" spc="-1" strike="noStrike">
              <a:solidFill>
                <a:srgbClr val="000000"/>
              </a:solidFill>
              <a:latin typeface="Gill Sans MT"/>
            </a:endParaRPr>
          </a:p>
          <a:p>
            <a:pPr marL="343080" indent="-343080">
              <a:spcBef>
                <a:spcPts val="4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e impugnan facturas de un proveedor, ante inexistencia del domicilio fiscal, no detectarse sus autoridades, no presentarse balances y sin registrar personal a cargo, a pesar que la actividad denunciada era de asistencia médica permanente, control de ausentismo y exámenes preocupacionales.</a:t>
            </a:r>
            <a:endParaRPr b="0" lang="en-US" sz="2000" spc="-1" strike="noStrike">
              <a:solidFill>
                <a:srgbClr val="000000"/>
              </a:solidFill>
              <a:latin typeface="Gill Sans MT"/>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Gill Sans MT"/>
              </a:rPr>
              <a:t>POSICIÓN  TFN</a:t>
            </a:r>
            <a:endParaRPr b="0" lang="en-US" sz="2000" spc="-1" strike="noStrike">
              <a:solidFill>
                <a:srgbClr val="000000"/>
              </a:solidFill>
              <a:latin typeface="Gill Sans MT"/>
            </a:endParaRPr>
          </a:p>
          <a:p>
            <a:pPr marL="343080" indent="-343080">
              <a:spcBef>
                <a:spcPts val="4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Confirma D.O. por salidas no documentadas</a:t>
            </a:r>
            <a:endParaRPr b="0" lang="en-US" sz="2000" spc="-1" strike="noStrike">
              <a:solidFill>
                <a:srgbClr val="000000"/>
              </a:solidFill>
              <a:latin typeface="Gill Sans MT"/>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Gill Sans MT"/>
              </a:rPr>
              <a:t>POSICIÓN CÁMARA</a:t>
            </a:r>
            <a:endParaRPr b="0" lang="en-US" sz="2000" spc="-1" strike="noStrike">
              <a:solidFill>
                <a:srgbClr val="000000"/>
              </a:solidFill>
              <a:latin typeface="Gill Sans MT"/>
            </a:endParaRPr>
          </a:p>
          <a:p>
            <a:pPr marL="343080" indent="-343080">
              <a:spcBef>
                <a:spcPts val="499"/>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Revoca sentencia TFN por el hecho que la individualización del destinatario al momento de cobrar un cheque o la registración contable de las facturas son elementos suficientes para excluir la figura de salidas no documentadas.</a:t>
            </a:r>
            <a:endParaRPr b="0" lang="en-US" sz="2000" spc="-1" strike="noStrike">
              <a:solidFill>
                <a:srgbClr val="000000"/>
              </a:solidFill>
              <a:latin typeface="Gill Sans MT"/>
            </a:endParaRPr>
          </a:p>
        </p:txBody>
      </p:sp>
      <p:sp>
        <p:nvSpPr>
          <p:cNvPr id="592" name="PlaceHolder 1"/>
          <p:cNvSpPr>
            <a:spLocks noGrp="1"/>
          </p:cNvSpPr>
          <p:nvPr>
            <p:ph type="title"/>
          </p:nvPr>
        </p:nvSpPr>
        <p:spPr>
          <a:xfrm>
            <a:off x="285840" y="213840"/>
            <a:ext cx="853416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a:t>
            </a:r>
            <a:r>
              <a:rPr b="0" lang="es-AR" sz="4400" spc="-1" strike="noStrike">
                <a:solidFill>
                  <a:srgbClr val="000000"/>
                </a:solidFill>
                <a:latin typeface="Gill Sans MT"/>
              </a:rPr>
              <a:t>Interbaires SA” CSN, 27/9/2011 (I)</a:t>
            </a:r>
            <a:endParaRPr b="0" lang="en-US" sz="4400" spc="-1" strike="noStrike">
              <a:solidFill>
                <a:srgbClr val="ffffff"/>
              </a:solidFill>
              <a:latin typeface="Gill Sans MT"/>
            </a:endParaRPr>
          </a:p>
        </p:txBody>
      </p:sp>
      <p:sp>
        <p:nvSpPr>
          <p:cNvPr id="593" name="3 Marcador de número de diapositiva"/>
          <p:cNvSpPr/>
          <p:nvPr/>
        </p:nvSpPr>
        <p:spPr>
          <a:xfrm>
            <a:off x="8675640" y="6492960"/>
            <a:ext cx="468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5988-9CB2-4231-954F-6010FFD0D1FB}" type="slidenum">
              <a:rPr b="1"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2560" y="1329840"/>
            <a:ext cx="9001080" cy="4813560"/>
          </a:xfrm>
          <a:prstGeom prst="rect">
            <a:avLst/>
          </a:prstGeom>
          <a:noFill/>
          <a:ln w="0">
            <a:noFill/>
          </a:ln>
        </p:spPr>
        <p:txBody>
          <a:bodyPr anchor="t">
            <a:normAutofit fontScale="89000"/>
          </a:bodyPr>
          <a:p>
            <a:pPr marL="305280" indent="-305280"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u="sng">
                <a:solidFill>
                  <a:srgbClr val="000000"/>
                </a:solidFill>
                <a:uFillTx/>
                <a:latin typeface="Gill Sans MT"/>
              </a:rPr>
              <a:t>POSICIÓN CSN</a:t>
            </a:r>
            <a:r>
              <a:rPr b="0" lang="es-AR" sz="1500" spc="-1" strike="noStrike">
                <a:solidFill>
                  <a:srgbClr val="000000"/>
                </a:solidFill>
                <a:latin typeface="Gill Sans MT"/>
              </a:rPr>
              <a:t> (Remisión Dictamen Procuradora Fiscal)</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Una salida de dinero carece de documentación, a los fines de la aplicación del art. 37 de la ley del impuesto a las ganancias, tanto cuando no hay documento alguno referente a ella, como en el supuesto en que si bien lo hay, el instrumento carece de aptitud para demostrar la causa de la erogación e individualizar –al tratarse de actos carentes de sinceridad- a su verdadero beneficiario (Fallos: 326:2987, cons. 18°).</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De lo expuesto se colige que ambos aspectos -la debida identificación de los beneficiarios y la demostración de la causa de la erogación- adquieren una importancia capital para dilucidar la aplicación del instituto.</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A través de un informe pericial habrá quedado eventualmente acreditada la salida del dinero mas no, como era menester, la individualización de su receptor ni tampoco la real existencia y la materialidad de las operaciones que originaron ese movimiento de fondos.</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Frente a la impugnación que el Fisco Nacional realizó de la documentación en trato, basada en razones sustantivas y no en meras cuestiones formales, que estaba a cargo del contribuyente el deber de individualizar al beneficiario de las salidas no documentadas no sólo nominalmente, sino también por medio de la acreditación de la realidad de los servicios prestados , (Fallos: 326:2987, cons. 17°).</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Ante la impugnación sustantiva del Fisco Nacional -quien imputa que las operaciones, económicas y la documentación recibida por Interbaires S.A. carecen de sinceridad- el contribuyente debía probar por otros medios que tales erogaciones fueron realmente efectuadas para obtener, mantener y conservar ganancias gravadas (arg. Art. 37, ya citado), carga con la que no cumplió, por lo que, su suerte adversa en esta controversia queda definitivamente sellada.</a:t>
            </a:r>
            <a:endParaRPr b="0" lang="en-US" sz="1500" spc="-1" strike="noStrike">
              <a:solidFill>
                <a:srgbClr val="000000"/>
              </a:solidFill>
              <a:latin typeface="Gill Sans MT"/>
            </a:endParaRPr>
          </a:p>
          <a:p>
            <a:pPr marL="305280" indent="-305280">
              <a:spcBef>
                <a:spcPts val="300"/>
              </a:spcBef>
              <a:buClr>
                <a:srgbClr val="1f497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ill Sans MT"/>
              </a:rPr>
              <a:t>Se devuelve al tribunal a quo, por quien corresponda, a efectos de dictar, nuevo fallo en el que deberá decidir lo relativo a la multa aplicada, en consideración de lo decidido sobre la procedencia del ajuste fiscal.</a:t>
            </a:r>
            <a:endParaRPr b="0" lang="en-US" sz="1500" spc="-1" strike="noStrike">
              <a:solidFill>
                <a:srgbClr val="000000"/>
              </a:solidFill>
              <a:latin typeface="Gill Sans MT"/>
            </a:endParaRPr>
          </a:p>
        </p:txBody>
      </p:sp>
      <p:sp>
        <p:nvSpPr>
          <p:cNvPr id="595" name="PlaceHolder 1"/>
          <p:cNvSpPr>
            <a:spLocks noGrp="1"/>
          </p:cNvSpPr>
          <p:nvPr>
            <p:ph type="title"/>
          </p:nvPr>
        </p:nvSpPr>
        <p:spPr>
          <a:xfrm>
            <a:off x="285840" y="142560"/>
            <a:ext cx="853416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a:t>
            </a:r>
            <a:r>
              <a:rPr b="0" lang="es-AR" sz="4400" spc="-1" strike="noStrike">
                <a:solidFill>
                  <a:srgbClr val="000000"/>
                </a:solidFill>
                <a:latin typeface="Gill Sans MT"/>
              </a:rPr>
              <a:t>Interbaires SA” CSN, 27/9/2011 (II)</a:t>
            </a:r>
            <a:endParaRPr b="0" lang="en-US" sz="4400" spc="-1" strike="noStrike">
              <a:solidFill>
                <a:srgbClr val="ffffff"/>
              </a:solidFill>
              <a:latin typeface="Gill Sans MT"/>
            </a:endParaRPr>
          </a:p>
        </p:txBody>
      </p:sp>
      <p:sp>
        <p:nvSpPr>
          <p:cNvPr id="596" name="3 Marcador de número de diapositiva"/>
          <p:cNvSpPr/>
          <p:nvPr/>
        </p:nvSpPr>
        <p:spPr>
          <a:xfrm>
            <a:off x="8675640" y="6492960"/>
            <a:ext cx="468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E114-BF1B-4983-AC7F-FC3C3237F853}" type="slidenum">
              <a:rPr b="1"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7" name=""/>
          <p:cNvGraphicFramePr/>
          <p:nvPr/>
        </p:nvGraphicFramePr>
        <p:xfrm>
          <a:off x="142920" y="1357200"/>
          <a:ext cx="8929800" cy="5214960"/>
        </p:xfrm>
        <a:graphic>
          <a:graphicData uri="http://schemas.openxmlformats.org/drawingml/2006/table">
            <a:tbl>
              <a:tblPr/>
              <a:tblGrid>
                <a:gridCol w="1758960"/>
                <a:gridCol w="2098800"/>
                <a:gridCol w="1857240"/>
                <a:gridCol w="1422360"/>
                <a:gridCol w="1792440"/>
              </a:tblGrid>
              <a:tr h="1370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IDENTIF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BENEFICIARIO</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DEMOSTRACIÓN DE LA REAL EXISTENCIA Y MATERIALIDAD DE LAS OPERACIONE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ATRIBUCIÓN DEL BENEFICIARIO A LA CAUSA DE LA OBLIGACIÓN</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EFECTIVA SALIDA DE FONDO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Gill Sans MT"/>
                        </a:rPr>
                        <a:t>SALIDAS NO DOCUMENTADAS</a:t>
                      </a:r>
                      <a:endParaRPr b="0" lang="en-US" sz="14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49360">
                <a:tc rowSpan="4">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549360">
                <a:tc rowSpan="3">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NO</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598" name="PlaceHolder 1"/>
          <p:cNvSpPr>
            <a:spLocks noGrp="1"/>
          </p:cNvSpPr>
          <p:nvPr>
            <p:ph type="title"/>
          </p:nvPr>
        </p:nvSpPr>
        <p:spPr>
          <a:xfrm>
            <a:off x="457200" y="151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Cuadro resumen</a:t>
            </a:r>
            <a:endParaRPr b="0" lang="en-US" sz="4800" spc="-1" strike="noStrike">
              <a:solidFill>
                <a:srgbClr val="ffffff"/>
              </a:solidFill>
              <a:latin typeface="Gill Sans MT"/>
            </a:endParaRPr>
          </a:p>
        </p:txBody>
      </p:sp>
      <p:sp>
        <p:nvSpPr>
          <p:cNvPr id="599" name="4 Marcador de número de diapositiva"/>
          <p:cNvSpPr/>
          <p:nvPr/>
        </p:nvSpPr>
        <p:spPr>
          <a:xfrm>
            <a:off x="8675640" y="6492960"/>
            <a:ext cx="468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9939-55A2-406C-9A89-E6A28E7AE527}" type="slidenum">
              <a:rPr b="1" lang="es-AR" sz="1000" spc="-1" strike="noStrike">
                <a:solidFill>
                  <a:srgbClr val="000000"/>
                </a:solidFill>
                <a:latin typeface="Gill Sans MT"/>
              </a:rPr>
              <a:t>&lt;number&gt;</a:t>
            </a:fld>
            <a:endParaRPr b="0" lang="en-US" sz="1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9:20:47Z</dcterms:created>
  <dc:creator>Nancy</dc:creator>
  <dc:description/>
  <dc:language>en-US</dc:language>
  <cp:lastModifiedBy>Nancy</cp:lastModifiedBy>
  <dcterms:modified xsi:type="dcterms:W3CDTF">2011-11-08T13:48:39Z</dcterms:modified>
  <cp:revision>16</cp:revision>
  <dc:subject/>
  <dc:title>EL IMPUESTO A LAS SALIDAS NO DOCUMENTADAS</dc:title>
</cp:coreProperties>
</file>